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C0B-7186-4FD0-A80A-B937FB35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094-8C0F-4118-B39D-150AC6DE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C57-F27C-4DF0-B071-7440FF24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265-9CC8-41A7-8B64-461F3CBD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B2D-F5B3-4D2B-930F-65FC7D19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658-DB78-4BA1-9682-12107CAC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AE0-5534-4E77-8372-526E6D5C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70B-503C-4E66-9032-236878E3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028-CAD1-46AE-B3D3-D5ECDFB8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06B-2D8D-4CB3-BAED-039F0BFD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42F-D78B-4746-9E97-41F2376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ED7-8837-4DC9-A6CC-5EA4563F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A8E4-F1C3-4D65-A32E-365F3865D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4792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                         ABINGTON                                       AVONDALE                              AVONDALE                                   AVONDALE  75TH                   BLACKWOOD  VICTORIA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WOOD  VICTORIA               BLACKWOOD  VICTORIA       BLACKWOOD  VICTORIA  100TH               BLANTYRE                                     BLANTYRE                                   BLANTY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                                   BLANTYRE  100TH                            BLANTYRE  100TH                      BLANTYRE  125TH                     BLANTYRE  M.W.                       BLANTYRE  M.W.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M.W.                               BLANTYRE  M.W.                                   BOTHWELL                                   BOTHWELL                                   BOTHWELL                                BOTHW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008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00160" y="189000"/>
            <a:ext cx="12430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13240" y="404640"/>
            <a:ext cx="1189080" cy="109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52880" y="18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465960" y="18900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905600" y="333360"/>
            <a:ext cx="12798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520" y="1989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657600" y="206064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5097600" y="2060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048520" y="206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2216160" y="342900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800520" y="3357720"/>
            <a:ext cx="1060560" cy="144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240160" y="3645000"/>
            <a:ext cx="109728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6608880" y="378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48520" y="386064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60520" y="53006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2000160" y="4941720"/>
            <a:ext cx="1500120" cy="144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3873600" y="537372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5313240" y="544500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6753240" y="544500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8193240" y="537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704880" y="620640"/>
            <a:ext cx="874800" cy="85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2073240" y="1773360"/>
            <a:ext cx="12002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364500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6608880" y="2060640"/>
            <a:ext cx="1104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9:54:24Z</dcterms:created>
  <dc:creator>JOHN YOUNG</dc:creator>
  <dc:description/>
  <dc:language>en-US</dc:language>
  <cp:lastModifiedBy>JY</cp:lastModifiedBy>
  <cp:lastPrinted>1999-12-15T20:27:10Z</cp:lastPrinted>
  <dcterms:modified xsi:type="dcterms:W3CDTF">2007-11-07T09:21:02Z</dcterms:modified>
  <cp:revision>24</cp:revision>
  <dc:subject/>
  <dc:title>No Slide Title</dc:title>
</cp:coreProperties>
</file>